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3B1C-ACB7-4E5F-A00B-7B7F6F9AE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anybody notice anything about these two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pathway: the product of one reaction is consumed in the next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vs. react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B0AE-2827-4AEE-AC4A-F2484A1BF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B949-BADC-4CF7-A1F7-7B4B192B99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do th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02A5-DD11-43A8-96E9-0D289ECD3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B977-C924-4062-86F0-594870BB46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not requi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quired to do all this (e.g., acetyl coenzyme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9E75-F3AD-4806-BD72-4F963D7E5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B648-B438-4C25-B606-BEEAF7BAF6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after Hands Kre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+ and FAD are electron c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 accepts one electron and pro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D accepts two electrons and prot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F986-8175-4577-ACBB-53E5EF18C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5175-971A-4722-9627-A1FBE91D2B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H is broken down….+ are released into inter-membrane spac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t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2D34-89EC-4893-BF87-88B2143F5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FB34-40C5-45CE-A934-2B720385F3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ATP…converted from energy in the electrons in NADH and FAD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C26E-4A0A-4E7F-A785-2F0082AA9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1D7F-95F1-4FAE-B050-9D8E216A35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where certain reactions occur in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tep makes ATP…It’s just a question of how much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107B-F3BD-4882-9C4E-CFB7BD9A3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3592-926A-40E3-B825-41DA5AB9E9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want to regenerate NAD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thout this, glycolysis can’t keep going and the small amount of ATP made in glycolysis can’t be c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macromolecule is glucose?—carbohydrate…break down the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word adenosine remind you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4B7-ACED-4330-899B-6750E322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156-50ED-4312-8077-50B966BA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69B5-8AC6-42FC-ABB1-0DF20558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3F94-BEF5-4E85-99F7-9A066716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9B1-13D7-4AD2-9146-AFD151E9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0CB-2416-4D99-BD67-8FDCD14C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C18-5CA5-45AF-95BC-7845AB49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59E-ECB4-4838-A17D-D0036B00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821-3A8E-419A-B9B1-457801AE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911-1FD5-4FB6-A0A7-359A2632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12E-EC5C-4D60-87A2-6176AAAC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8E2-BA25-43C6-B9AA-10FDD554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805C-15D3-4935-8D35-12D64D80F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t 3: Cell Metabol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14964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3344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Photosynthesis and Re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360" y="182880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+ Energy (Light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Energy (ATP) + 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1600200"/>
            <a:ext cx="5334120" cy="99072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276720" y="3886200"/>
            <a:ext cx="4876560" cy="91440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04920" y="3886200"/>
            <a:ext cx="2361960" cy="9907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5715000" y="1600200"/>
            <a:ext cx="2514600" cy="9907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2590920" y="2590920"/>
            <a:ext cx="4343400" cy="129528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 flipV="1">
            <a:off x="1981080" y="2590920"/>
            <a:ext cx="4419720" cy="1295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533520" y="54100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T COMPARISON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reactants of one reaction are the products of the other reac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soulcare.org/images/photosynthesis_respiration_diagram.gif"/>
          <p:cNvPicPr/>
          <p:nvPr/>
        </p:nvPicPr>
        <p:blipFill>
          <a:blip r:embed="rId1"/>
          <a:stretch/>
        </p:blipFill>
        <p:spPr>
          <a:xfrm>
            <a:off x="1752480" y="304920"/>
            <a:ext cx="5543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from fi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chanic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mechanical pencil, pencil sharpener, car, bik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emic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is present in chemical bonds of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gar-each bond (line) holds a lot of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6477120" y="4599000"/>
            <a:ext cx="182880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batteries convert stored chemical energy (gasoline) to mechanical energy-the car is able to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cell, ATP breaks down to ADP. The energy is used to do things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6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rbon Dioxide + Wa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lucose +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819520" y="1600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648320" y="35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3"/>
          <p:cNvSpPr/>
          <p:nvPr/>
        </p:nvSpPr>
        <p:spPr>
          <a:xfrm>
            <a:off x="304920" y="1676520"/>
            <a:ext cx="266688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457200" y="3809880"/>
            <a:ext cx="4419720" cy="99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429000" y="1676520"/>
            <a:ext cx="3352680" cy="761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334120" y="3962520"/>
            <a:ext cx="3504960" cy="761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1828800" y="2590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25146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50292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9343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762120" y="3124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ac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295280" y="53341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ac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038480" y="29718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5791320" y="5257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Phases of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ght Depend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ed 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from su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sor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energy is converted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 or NADP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other energy-storing molec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Phases of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dependent (don’t need 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vi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 and NADP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k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gar (gluco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 can be used to mak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, lipids, DNA,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a 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ylako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ere the light reactions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ylakoids are arranged in stacks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n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o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ere the light independent reactions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660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tabolism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process that involves using energy to build or break down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hotosynthesis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ellular respir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making and breaking energy-rich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bsor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ght (certain colors)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flec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i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ylakoid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ophylls “a” and “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are dark/light green because of different amounts of 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hlorophyll a or b were absent, photosynthesis would 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roten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i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b-carot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s red/yellow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carrots/sweet potatoes their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ll Sea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ophyll break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see color of other pi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fall_leaf"/>
          <p:cNvPicPr/>
          <p:nvPr/>
        </p:nvPicPr>
        <p:blipFill>
          <a:blip r:embed="rId1"/>
          <a:stretch/>
        </p:blipFill>
        <p:spPr>
          <a:xfrm>
            <a:off x="4419720" y="2438280"/>
            <a:ext cx="441000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hat affect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dioxide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n ecosystem, photosynthesis and cellular respiration (the other process) form a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3276720" y="2286000"/>
            <a:ext cx="2819160" cy="1028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</a:t>
            </a:r>
            <a:r>
              <a:rPr b="0" lang="en-U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809880" y="4648320"/>
            <a:ext cx="2133720" cy="1143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ar +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6400800" y="3505320"/>
            <a:ext cx="1828800" cy="10285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ular Respiration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 flipV="1" rot="10800000">
            <a:off x="6324480" y="2743200"/>
            <a:ext cx="1028880" cy="571680"/>
          </a:xfrm>
          <a:custGeom>
            <a:avLst/>
            <a:gdLst>
              <a:gd name="textAreaLeft" fmla="*/ 591840 w 1028880"/>
              <a:gd name="textAreaRight" fmla="*/ 868320 w 1028880"/>
              <a:gd name="textAreaTop" fmla="*/ 77040 h 571680"/>
              <a:gd name="textAreaBottom" fmla="*/ 24480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 flipV="1" rot="16200000">
            <a:off x="6552720" y="4647600"/>
            <a:ext cx="685800" cy="1143000"/>
          </a:xfrm>
          <a:custGeom>
            <a:avLst/>
            <a:gdLst>
              <a:gd name="textAreaLeft" fmla="*/ 394560 w 685800"/>
              <a:gd name="textAreaRight" fmla="*/ 578880 w 68580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1295280" y="3581280"/>
            <a:ext cx="1905120" cy="9144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loropla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/>
          <p:cNvSpPr/>
          <p:nvPr/>
        </p:nvSpPr>
        <p:spPr>
          <a:xfrm flipH="1" rot="16200000">
            <a:off x="2205000" y="2519640"/>
            <a:ext cx="828720" cy="971280"/>
          </a:xfrm>
          <a:custGeom>
            <a:avLst/>
            <a:gdLst>
              <a:gd name="textAreaLeft" fmla="*/ 477000 w 828720"/>
              <a:gd name="textAreaRight" fmla="*/ 699840 w 828720"/>
              <a:gd name="textAreaTop" fmla="*/ 130680 h 971280"/>
              <a:gd name="textAreaBottom" fmla="*/ 415800 h 971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1"/>
          <p:cNvSpPr/>
          <p:nvPr/>
        </p:nvSpPr>
        <p:spPr>
          <a:xfrm flipV="1">
            <a:off x="2362320" y="4800600"/>
            <a:ext cx="1143000" cy="571680"/>
          </a:xfrm>
          <a:custGeom>
            <a:avLst/>
            <a:gdLst>
              <a:gd name="textAreaLeft" fmla="*/ 657720 w 1143000"/>
              <a:gd name="textAreaRight" fmla="*/ 964800 w 1143000"/>
              <a:gd name="textAreaTop" fmla="*/ 77040 h 571680"/>
              <a:gd name="textAreaBottom" fmla="*/ 24480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ular Respira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038480" cy="3039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4495680" y="3484440"/>
            <a:ext cx="381024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09480" y="1981080"/>
            <a:ext cx="82296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lucose + Oxyge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nergy + Carbon Dioxide +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ATP + 6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276720" y="4572000"/>
            <a:ext cx="350496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733920" y="1905120"/>
            <a:ext cx="4876560" cy="761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1828800" y="2590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609588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762120" y="3124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ac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5029200" y="3200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464832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167652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533520" y="1905120"/>
            <a:ext cx="281916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533520" y="4572000"/>
            <a:ext cx="236196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762120" y="5791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ac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35812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o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ochondria in Eukaryo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Membrane in Pro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 ATP from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energpath1"/>
          <p:cNvPicPr/>
          <p:nvPr/>
        </p:nvPicPr>
        <p:blipFill>
          <a:blip r:embed="rId1"/>
          <a:stretch/>
        </p:blipFill>
        <p:spPr>
          <a:xfrm>
            <a:off x="3733920" y="2209680"/>
            <a:ext cx="541008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52280" y="2743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: ATP (Adenosine Tri-Phospha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we use ATP as our energy storage molec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high-energy bond betwee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s in an ATP molec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ok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is bond releases a lot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4876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485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taining Nutrients: Two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447920"/>
            <a:ext cx="5943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totro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elf feeders)= make their own food from “inorganic” substances and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Plants, algae, certai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terotroph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ifferent feeders)= obtain their nutrients by feeding on other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Animals and Fun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2495520" cy="20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81952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a Mitochondr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Mitochondria Structural Features"/>
          <p:cNvPicPr/>
          <p:nvPr/>
        </p:nvPicPr>
        <p:blipFill>
          <a:blip r:embed="rId1"/>
          <a:stretch/>
        </p:blipFill>
        <p:spPr>
          <a:xfrm>
            <a:off x="2514600" y="1143000"/>
            <a:ext cx="4038480" cy="37688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457200" y="48769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lycolysis occurs in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ytoplasm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reb’s Cycle occurs 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ctron Transport Chain occurs 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nner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t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ds in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tochondrial membrane are call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rist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tae increase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rface area (amount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membrane so tha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ellular respir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cc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mitochondrion2"/>
          <p:cNvPicPr/>
          <p:nvPr/>
        </p:nvPicPr>
        <p:blipFill>
          <a:blip r:embed="rId1"/>
          <a:stretch/>
        </p:blipFill>
        <p:spPr>
          <a:xfrm>
            <a:off x="3200400" y="3886200"/>
            <a:ext cx="53341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erobic Respi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oxygen i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efficient (produces a lot of AT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aerobic Respi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the absence of oxy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fficient (produces very little AT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Glyco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urpo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broken down into smaller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ount of ATP Produ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amount of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glycolysis"/>
          <p:cNvPicPr/>
          <p:nvPr/>
        </p:nvPicPr>
        <p:blipFill>
          <a:blip r:embed="rId1"/>
          <a:stretch/>
        </p:blipFill>
        <p:spPr>
          <a:xfrm>
            <a:off x="4876920" y="1523880"/>
            <a:ext cx="380988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: Kreb’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3809880" cy="36003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457200" y="2286000"/>
            <a:ext cx="4724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urpo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further broken down into CO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ount of ATP Produ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amount of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 of Mitoch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3: Electron Transport Ch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560760" cy="27860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457200" y="1600200"/>
            <a:ext cx="7543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urpo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nergy electrons from the Kreb’s cycle convert ADP into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+ moves through the membrane and into the mitochond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2 is converted into H2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ount of ATP Produ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Amount of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 Membrane of the Mitochondria (Crista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erobic Respiration: Energy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 AT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 AT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reb’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4 AT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066680" y="38098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38 Total ATP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143000" y="1739880"/>
            <a:ext cx="7086600" cy="5118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685800" y="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erobic Respira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ire Process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Name: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: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actic Acid Ferment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lcoholic (Ethanol) Fer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200400" y="3749760"/>
            <a:ext cx="51436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ic Acid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ste Product: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s in Everyday Lif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cells 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, yogurt, pickl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017720" y="3733920"/>
            <a:ext cx="3078000" cy="2779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55428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s in: autotrop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Convert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ght ener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emical ener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luco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: carbohydrate monom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905120" y="3276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61324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22716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coholic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ste Produc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ppens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Yeast Cells (fung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s in Everyday Life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st causing bread to rise, beer makin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bon dioxide + water + light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glucose + oxy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+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135520" y="16765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c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021360" y="17524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3429000" y="4419720"/>
            <a:ext cx="1438200" cy="13604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0" y="2362320"/>
            <a:ext cx="5181480" cy="3809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5638680" y="2362320"/>
            <a:ext cx="3505320" cy="3809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Respiration (Autotrophs AND Heterotroph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6761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ppens in: autotrophs AND heterotro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: converting chemical energy 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into USABLE energy 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adenosine triphosph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 (Adenine Triphosph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emical ener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iving organis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oken dow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lease th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ADP + P + energ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ings across a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P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32767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Ade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Ribose (a sug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Phosphat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l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ergy whe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o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osphate group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ro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ttp://www.google.com/url?source=imglanding&amp;ct=img&amp;q=http://www.uic.edu/classes/bios/bios100/summer2003/atp.jpg&amp;sa=X&amp;ei=tfp_UKHAG-LC0QHn7oDQCw&amp;ved=0CA0Q8wc&amp;usg=AFQjCNGiWUdO5Dd-WSfsFBQdgC8rLu1WWg"/>
          <p:cNvPicPr/>
          <p:nvPr/>
        </p:nvPicPr>
        <p:blipFill>
          <a:blip r:embed="rId1"/>
          <a:stretch/>
        </p:blipFill>
        <p:spPr>
          <a:xfrm>
            <a:off x="3809880" y="2133720"/>
            <a:ext cx="4762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5248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e + oxygen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Energy + Carbon Dioxide +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ATP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992520" y="16002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c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868720" y="16002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0" y="2362320"/>
            <a:ext cx="3276720" cy="3809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09880" y="2362320"/>
            <a:ext cx="5334120" cy="3809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3:17:01Z</dcterms:created>
  <dc:creator>L'Anse Creuse Public Schools</dc:creator>
  <dc:description/>
  <dc:language>en-US</dc:language>
  <cp:lastModifiedBy>OttoliKE</cp:lastModifiedBy>
  <dcterms:modified xsi:type="dcterms:W3CDTF">2012-10-22T14:02:52Z</dcterms:modified>
  <cp:revision>42</cp:revision>
  <dc:subject/>
  <dc:title>Photosynthesis</dc:title>
</cp:coreProperties>
</file>